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BA4C-D24E-4FC3-A6CC-817C4840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E412-FCFA-4A41-AE72-A0EB3195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8E1A-2486-411A-BE0F-12A97806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95FE-0227-4B22-B68F-97F3CFB14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31EE-4847-4481-B347-055BBE5F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08B1-9D2F-439B-A4BB-55D50FDB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4AC1-E104-4BCC-A473-BC406A9C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0AE3-B673-45B3-961A-001C520D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4F1E-BE78-476E-966C-2DBF251D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6E59-54C5-4818-A19E-31FED245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2FEB-E698-4634-B828-B3DCFB02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B900-8702-4B74-9C0F-4DBC9EB9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2F04-A22E-48BD-BBA7-8A557C947272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70036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nsky.org/" TargetMode="External"/><Relationship Id="rId2" Type="http://schemas.openxmlformats.org/officeDocument/2006/relationships/hyperlink" Target="http://creativecommons.org/licenses/by/4.0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25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Arial"/>
              </a:rPr>
              <a:t>Star pattern recognition in astronomical im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dding meta data to astronomical im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Han Kleijn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nsky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This work is licensed under a </a:t>
            </a:r>
            <a:r>
              <a:rPr b="0" lang="en-GB" sz="7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reative Commons Attribution 4.0 International License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24720" y="5229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hnsky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D5FA-716C-4935-88A6-FA0CB1C082B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9120" y="243000"/>
            <a:ext cx="8894880" cy="6615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Application: insp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hnsky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B26D-F940-4919-BD90-52F30F3FA8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Stacking work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ndentify the stars in an im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Build quads (four closest sta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Calculate the hash pattern for each quad (the six star distanc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Match the found quads with the reference image quads. Calculate th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dd the image pixels to the correct place in the stack using the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hnsky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6761-11C1-48AF-A97C-8E71FD7FF8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Solver work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ndentify the stars in an im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Build quads (four closest sta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Calculate the hash pattern for each quad (the six star distanc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Find a match between the image hash codes and the hash codes of an artificial image build with the databa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Calculate an solution and model the α, δ position of each image pix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hnsky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08A3-ED74-470C-B834-7ED7A5D6A0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Star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479700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easure the local average background (bias + average total noi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easure the total noi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easure the star flu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alculate the star X,Y position at centre of gravity with sub pixel accuracy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8870760" cy="36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hnsky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CD60-6318-425D-ACEA-3490DFCD80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Hash coding stars combin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tar distances and or 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airs (2) , triangles (3), quads (4) or quints (5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Numbers of stars in the sky up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Mag 16, 60 million st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Mag 17, 105 million st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Mag 18, 208 million st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STAP uses four closest stars (quads) and measures the  (angular) distances between them.</a:t>
            </a:r>
            <a:r>
              <a:rPr b="0" lang="en-GB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 Star density of image and reference should be simi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hnsky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BF48-B381-4BFF-9E01-44513F6BFD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Detected quad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hnsky.or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997E-14A5-4C99-8F7F-FC4BF472A3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Hash  code/Pattern ma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tar matching works both between images (for stacking) and an image and a star data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tacking experience was a test field for astrometric sol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hnsky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29E5-1AAF-46C4-912C-50783F7503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Quad hash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4 stars give 6 distances e1, e2, e3, e4, e5, e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alculate largest distance and 5 rat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   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Largest distance: 3" 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 Five ratios: 2/3, 1/3, 0.7/3, 0.6/3, 0.5/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he five ratios are sufficient for the sea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Rotation, scaling, flipping  of the image has no influence on the "five ratios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he "largest distance" is later used to detect outliers. 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hnsky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644C-0817-4777-855E-2DF4B8EF6F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Searching through the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the star database numerous artificial images are created using the same star density per degree following a search pattern around the initial α, δ po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he artificial images hash codes are compared with the hash codes of the image to solve. This is the actual search. Only at about the image location a part of the hash codes will match within a small tole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he  "largest distances" should have a fixed ratio between the image and artificial database image. (outlier detection)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hnsky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4848-8663-441A-9831-D7109C40E7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Six plate con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he test image centre, size and orientation position will be different compared with the reference ima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he required conversion from the test image [x,y] star positions to the same stars on the test images can be written as: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Xref : = a*Xtest + b*Ytest + c</a:t>
            </a:r>
            <a:br>
              <a:rPr sz="3200"/>
            </a:b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Yref :=  d*Xtest + e*Ytest +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hnsky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6E12-15C4-4CE6-9368-36915CB47D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Brief description of the ASTAP program development, appl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Brief description how an astrometric (plate) solver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hnsky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8935-4BEA-4EF3-80DA-B2E1FEA7F4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Solution keywords in FITS hea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RPIX1  =  … / X of reference pixel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RPIX2  =  … / Y of reference pixel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RVAL1  =  … / RA of reference pixel (deg)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RVAL2  =  … / DEC of reference pixel (de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D1_1   = … / CD matrix to convert (x,y) to (Ra, Dec)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D1_2   = … / CD matrix to convert (x,y) to (Ra, Dec)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D2_1   = … / CD matrix to convert (x,y) to (Ra, Dec)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D2_2   =  …/ CD matrix to convert (x,y) to (Ra, Dec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hnsky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C092-2F51-4C32-8775-C0F13740E9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6979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The 1476 fields of the star data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5514840" cy="5278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732720" y="1628640"/>
            <a:ext cx="22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Design crite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Field boundaries are lines of constant 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and δ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Step size is 90/17.5 equals 5.143° or lar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hnsky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362B-2E73-4A0E-963D-E721F73A90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675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The 1476 fields of the star data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5616360" cy="542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hnsky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E105-1BC5-4637-A5AD-82CC202DB2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Development of AST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NS_FITS Simple FITS viewer and manual two reference star solver (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ucceeded by ASTAP Astrometrical STAcking Program (201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Release milestone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2016 The .290 star database format developed for HNSKY planetarium, first release of the Gaia ver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2017-11, Stacking using Astrometry.net &amp; PlateSolv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2018-03-14, Adding Internal star alignment for stac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2018-04-19, Added internal sol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hnsky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9B1B-4B8C-45A1-A00F-CEEA9DF007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strometric solver for mount alig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tacking of astronomical 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26920" y="2840040"/>
            <a:ext cx="7380360" cy="401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hnsky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C10D-BA66-443A-B9FF-42B1FC5212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Application: phot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14440" y="2421000"/>
            <a:ext cx="8629560" cy="3019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0680" y="1916280"/>
            <a:ext cx="469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easure and export selected star magn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hnsky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9A39-BE46-4940-9576-6198FEDD65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Application: live st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735200"/>
            <a:ext cx="9144000" cy="441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hnsky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AE4F-0CFB-439C-937F-8319147BB3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Application: photometr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093240" cy="4343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0360" y="1413000"/>
            <a:ext cx="25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AAVSO versus AST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hnsky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2B31-8870-4965-87BA-5E08E2FB10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Background equalising and other 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hnsky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AFBB-7DFE-45F4-A410-CD1775709D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Application: an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4462560" cy="5661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219640" y="2205000"/>
            <a:ext cx="39243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Deeps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Hyperle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Variable st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hnsky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07FE-8476-4C2F-9D11-DC6C04DAD4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01T10:03:14Z</dcterms:created>
  <dc:creator>h</dc:creator>
  <dc:description/>
  <dc:language>en-US</dc:language>
  <cp:lastModifiedBy>h</cp:lastModifiedBy>
  <dcterms:modified xsi:type="dcterms:W3CDTF">2021-07-25T06:59:04Z</dcterms:modified>
  <cp:revision>26</cp:revision>
  <dc:subject/>
  <dc:title>Star pattern recogonision in astronomical images</dc:title>
</cp:coreProperties>
</file>